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68F-DC68-4E94-A347-D7D7CB73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331-B17F-4322-A7A6-9322E91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6C7-969E-4CC9-844A-064B6931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0C9-B5BB-4D03-A3F7-EDE66376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ABF-285C-4FAA-ACE2-73E1284B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230-0B41-483B-B8F1-9B2560EC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65B-577A-40B2-9286-8153881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12B-3D08-435E-A7D1-53A561D0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4AA-3D4D-421D-B2BD-107C8D4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1CF-F016-419B-BEF5-A4BBC64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4B1-537D-4BF6-A388-BF05271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93B-BB4E-4FEB-B70C-E439A49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76FC7-AAC8-495A-829F-484D696C4FCB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0.02.2021 № 60 «Об утверждении Порядка предоставления субсидий из бюджета Воронежской области на осуществление компенсации производителям муки части затрат на закупку продовольственной пшени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уки из зерновых культур (код вида экономической деятельности в соответствии с Общероссийским классификатором видов экономической деятельности (ОК 029-2014 (КДЕС Ред. 2)) - 10.61.2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приобретение продовольственной пшени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по неповышению цен на муку в период предоставления иного межбюджетного трансферта из федерального бюджета бюджету Воронеж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настоящего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м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уки части затрат (без учета налога на добавленную стоимость), связанных с приобретением продовольственной пшеницы, в рамках реализации государственной программы Воронежской области 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40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ведения о производстве и реализации продукции по форме согласно приложению № 3 к Порядку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правку о наличии мощностей для производства муки по форме согласно приложению № 4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копии документов, подтверждающих приобретение продовольственной пшеницы (договоры купли-продажи, товарные накладные или универсальные передаточные документы, платежные докумен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ую муку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7:34Z</dcterms:modified>
  <cp:revision>102</cp:revision>
  <dc:subject/>
  <dc:title>Презентация PowerPoint</dc:title>
</cp:coreProperties>
</file>