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36180713" cy="51120675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98A-7E77-43AC-9DF4-AEB35BF7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9AC7-4B4B-4787-AF2C-836029D4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386-061F-4022-9795-F4D467ED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03848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5890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876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03848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5890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DE0-F67A-4719-8ED7-9EC6BE17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963"/>
              </a:spcBef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1F6-E1C9-4604-8B39-02CE4385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426D-7C3C-4BF2-90A7-A9ECEB1E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C04-4CBD-4A8C-B972-697A015C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0284-D767-4C30-B213-B9F88374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87600" y="2720520"/>
            <a:ext cx="31205520" cy="458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963"/>
              </a:spcBef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267-5CAE-4A26-8614-8AFFB315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E850-C7C7-42B2-A7D7-362A29ED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E485-BE6F-4F2D-9D46-983DC806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11B-9BF5-45FE-B366-14D88D1C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r>
              <a:rPr b="0" lang="en-US" sz="17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1" marL="2712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2" marL="4521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3" marL="6330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4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5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6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8724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85480" y="47380680"/>
            <a:ext cx="1220976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55208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AB998-3A7E-46BC-80F0-D3581BF5C138}" type="slidenum">
              <a:rPr b="0" lang="ru-RU" sz="4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880920" y="706320"/>
            <a:ext cx="35750520" cy="83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-схема предоставления мер государственной поддер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становлением правительства Воронежской области от 30.04.2021 № 256 «Об утверждении Порядка предоставления субсидий из бюджета Воронежской области на возмещение производителям масла подсолнечного и (или) производителям сахара белого части затрат на производство и реализацию рафинированного бутилированного масла подсолнечного и (или) сахара белого в организации розничной торговли в 2021 год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получение субсидий имеют организации и индивидуальные предприниматели, осуществляющие первичную и (или) последующую (промышленную) переработку сельскохозяйственной продукции, а именно организации и индивидуальные предприниматели, занимающиеся производством масла подсолнечного и (или) сахара белого, поставленные на учет в налоговых органах Воронежской области, осуществляющие деятельность на территории Воронежской области и соответствующие требованиям, установленным пунктом 5 Порядка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3559320" y="6354720"/>
            <a:ext cx="26484120" cy="24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департаментом аграрной политики Воронежской области объявления о проведении отбора на  Едином портале бюджетной системы Российской Федерации в информационно-телекоммуникационной сети «Интернет», а также в информационной системе «Портал Воронежской области в сети Интернет» на странице Департа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9"/>
          <p:cNvSpPr/>
          <p:nvPr/>
        </p:nvSpPr>
        <p:spPr>
          <a:xfrm>
            <a:off x="3975120" y="9461520"/>
            <a:ext cx="26484120" cy="256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участником отбора в Департамент в срок, установленный Департаментом в объявлении о проведении отбора, заявки на участие в отборе по форме согласно приложению № 1 к Порядку с приложением документов, указанных 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е 14 Порядка 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отбора вправе в любое время отозвать поданную заявку, внести изменения в поданную зая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6"/>
          <p:cNvSpPr/>
          <p:nvPr/>
        </p:nvSpPr>
        <p:spPr>
          <a:xfrm>
            <a:off x="11155320" y="12492000"/>
            <a:ext cx="14238360" cy="189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явки Департаме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8"/>
          <p:cNvSpPr/>
          <p:nvPr/>
        </p:nvSpPr>
        <p:spPr>
          <a:xfrm>
            <a:off x="11155320" y="14803560"/>
            <a:ext cx="1423836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инятии заявки к рассмотрению либо об отклонении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после окончания срока приема докумен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5"/>
          <p:cNvSpPr/>
          <p:nvPr/>
        </p:nvSpPr>
        <p:spPr>
          <a:xfrm>
            <a:off x="1830240" y="18469080"/>
            <a:ext cx="902844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заявки к рассмотр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6"/>
          <p:cNvSpPr/>
          <p:nvPr/>
        </p:nvSpPr>
        <p:spPr>
          <a:xfrm>
            <a:off x="26681040" y="18562680"/>
            <a:ext cx="7902720" cy="984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онение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лонения заявки участника отбора на стадии рассмотрения и оценки заявок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участника отбора требованиям, установленным в пункте 5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заявок и документов требованиям к заявкам участников отбора, установленным в объявлении о проведении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стоверность представленной участником отбора информации, в том числе информации о месте нахождения и адресе юридического ли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ача участником отбора заявки после даты, определенной для подачи заяв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8"/>
          <p:cNvSpPr/>
          <p:nvPr/>
        </p:nvSpPr>
        <p:spPr>
          <a:xfrm>
            <a:off x="14190840" y="18300600"/>
            <a:ext cx="7902360" cy="440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информации о результатах рассмотрения заявок на Едином портале, а также в информационной системе «Портал Воронежской области в сети Интернет» на странице Департам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принятия решения по результатам рассмотрения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925640" y="21891600"/>
            <a:ext cx="9028080" cy="288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едоставлении субсидии либо об отказе в ее предост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с даты регистрации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11736360" y="25071480"/>
            <a:ext cx="10074240" cy="1045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в предоставлении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аза участнику отбора в предоставлении субсид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документов требованиям, определенным в соответствии с пунктом 9 Порядка, или непредставление (представление не в полном объеме) указанных докум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ие факта недостоверности представленной участником отбора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выполнение целей и условий предоставления субсидий, установленных Поряд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аз получателя субсидии от заключения Согла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лонение получателя субсидии от заключения Соглашения в сроки, установленные пунктом 23 По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лимитов бюджетных обязательств на предоставление субсид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11725200" y="36434880"/>
            <a:ext cx="9918720" cy="335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е уведомление участника отбора об отказе в предоставлении субсидии с указанием причины принятия соответствующего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112840" y="29548080"/>
            <a:ext cx="7380360" cy="288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участника отбора в реестр получателей субсидии на оплату из бюджета Воронеж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субсидии рассчитывается в соответствии с пунктом 20 Поря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2152800" y="26411400"/>
            <a:ext cx="73800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омление участника отбора о принятом решени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1868400" y="33169320"/>
            <a:ext cx="7400880" cy="356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Соглашения о предоставлении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10 рабочих дней с даты принятия решения о предоставлении субсидии) либо отказ участника отбора от заключения Согла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1932120" y="37441080"/>
            <a:ext cx="7380000" cy="238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ение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 позднее 10-го рабочего дня, следующего за днем принятия решения о предоставлении субсид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6"/>
          <p:cNvSpPr/>
          <p:nvPr/>
        </p:nvSpPr>
        <p:spPr>
          <a:xfrm>
            <a:off x="1962000" y="40495680"/>
            <a:ext cx="738036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олучателем субсидии отчета о достижении результатов предоставления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 до 15 декабря текущего год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: вправо 17"/>
          <p:cNvSpPr/>
          <p:nvPr/>
        </p:nvSpPr>
        <p:spPr>
          <a:xfrm>
            <a:off x="9310680" y="34971120"/>
            <a:ext cx="946080" cy="136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: вниз 20"/>
          <p:cNvSpPr/>
          <p:nvPr/>
        </p:nvSpPr>
        <p:spPr>
          <a:xfrm>
            <a:off x="18127800" y="8794800"/>
            <a:ext cx="46080" cy="66672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: вниз 22"/>
          <p:cNvSpPr/>
          <p:nvPr/>
        </p:nvSpPr>
        <p:spPr>
          <a:xfrm>
            <a:off x="18108720" y="12015720"/>
            <a:ext cx="46080" cy="487440"/>
          </a:xfrm>
          <a:prstGeom prst="downArrow">
            <a:avLst>
              <a:gd name="adj1" fmla="val 50000"/>
              <a:gd name="adj2" fmla="val 4995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: вниз 23"/>
          <p:cNvSpPr/>
          <p:nvPr/>
        </p:nvSpPr>
        <p:spPr>
          <a:xfrm>
            <a:off x="18016560" y="14385960"/>
            <a:ext cx="44280" cy="414360"/>
          </a:xfrm>
          <a:prstGeom prst="downArrow">
            <a:avLst>
              <a:gd name="adj1" fmla="val 50000"/>
              <a:gd name="adj2" fmla="val 50211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: вниз 27"/>
          <p:cNvSpPr/>
          <p:nvPr/>
        </p:nvSpPr>
        <p:spPr>
          <a:xfrm>
            <a:off x="6105600" y="20966040"/>
            <a:ext cx="46080" cy="925560"/>
          </a:xfrm>
          <a:prstGeom prst="downArrow">
            <a:avLst>
              <a:gd name="adj1" fmla="val 50000"/>
              <a:gd name="adj2" fmla="val 4993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: вниз 32"/>
          <p:cNvSpPr/>
          <p:nvPr/>
        </p:nvSpPr>
        <p:spPr>
          <a:xfrm flipH="1">
            <a:off x="16605360" y="35509320"/>
            <a:ext cx="108000" cy="9270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: вниз 34"/>
          <p:cNvSpPr/>
          <p:nvPr/>
        </p:nvSpPr>
        <p:spPr>
          <a:xfrm>
            <a:off x="5925960" y="32457960"/>
            <a:ext cx="44640" cy="725400"/>
          </a:xfrm>
          <a:prstGeom prst="downArrow">
            <a:avLst>
              <a:gd name="adj1" fmla="val 50000"/>
              <a:gd name="adj2" fmla="val 4980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: вниз 37"/>
          <p:cNvSpPr/>
          <p:nvPr/>
        </p:nvSpPr>
        <p:spPr>
          <a:xfrm>
            <a:off x="5989680" y="39811320"/>
            <a:ext cx="44280" cy="652320"/>
          </a:xfrm>
          <a:prstGeom prst="downArrow">
            <a:avLst>
              <a:gd name="adj1" fmla="val 50000"/>
              <a:gd name="adj2" fmla="val 5019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: вниз 44"/>
          <p:cNvSpPr/>
          <p:nvPr/>
        </p:nvSpPr>
        <p:spPr>
          <a:xfrm>
            <a:off x="6000840" y="24711120"/>
            <a:ext cx="46080" cy="1689120"/>
          </a:xfrm>
          <a:prstGeom prst="downArrow">
            <a:avLst>
              <a:gd name="adj1" fmla="val 50000"/>
              <a:gd name="adj2" fmla="val 4989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: вправо 51"/>
          <p:cNvSpPr/>
          <p:nvPr/>
        </p:nvSpPr>
        <p:spPr>
          <a:xfrm>
            <a:off x="10958400" y="2344572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: вниз 52"/>
          <p:cNvSpPr/>
          <p:nvPr/>
        </p:nvSpPr>
        <p:spPr>
          <a:xfrm>
            <a:off x="18029160" y="17267400"/>
            <a:ext cx="46080" cy="100152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: вниз 54"/>
          <p:cNvSpPr/>
          <p:nvPr/>
        </p:nvSpPr>
        <p:spPr>
          <a:xfrm>
            <a:off x="30586320" y="1691784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: вниз 18"/>
          <p:cNvSpPr/>
          <p:nvPr/>
        </p:nvSpPr>
        <p:spPr>
          <a:xfrm flipH="1">
            <a:off x="6012000" y="28905120"/>
            <a:ext cx="46080" cy="59544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: вниз 21"/>
          <p:cNvSpPr/>
          <p:nvPr/>
        </p:nvSpPr>
        <p:spPr>
          <a:xfrm rot="10800000">
            <a:off x="10186920" y="29501640"/>
            <a:ext cx="90720" cy="5475240"/>
          </a:xfrm>
          <a:prstGeom prst="downArrow">
            <a:avLst>
              <a:gd name="adj1" fmla="val 50000"/>
              <a:gd name="adj2" fmla="val 4973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: вправо 24"/>
          <p:cNvSpPr/>
          <p:nvPr/>
        </p:nvSpPr>
        <p:spPr>
          <a:xfrm>
            <a:off x="10256760" y="29406960"/>
            <a:ext cx="1527120" cy="125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: вниз 25"/>
          <p:cNvSpPr/>
          <p:nvPr/>
        </p:nvSpPr>
        <p:spPr>
          <a:xfrm>
            <a:off x="5923080" y="36739440"/>
            <a:ext cx="68040" cy="669960"/>
          </a:xfrm>
          <a:prstGeom prst="downArrow">
            <a:avLst>
              <a:gd name="adj1" fmla="val 50000"/>
              <a:gd name="adj2" fmla="val 5014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: вправо 51"/>
          <p:cNvSpPr/>
          <p:nvPr/>
        </p:nvSpPr>
        <p:spPr>
          <a:xfrm>
            <a:off x="25468200" y="1691316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: вниз 54"/>
          <p:cNvSpPr/>
          <p:nvPr/>
        </p:nvSpPr>
        <p:spPr>
          <a:xfrm>
            <a:off x="6049800" y="1688148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: вниз 54"/>
          <p:cNvSpPr/>
          <p:nvPr/>
        </p:nvSpPr>
        <p:spPr>
          <a:xfrm>
            <a:off x="18083160" y="4714920"/>
            <a:ext cx="46080" cy="159840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: вправо 51"/>
          <p:cNvSpPr/>
          <p:nvPr/>
        </p:nvSpPr>
        <p:spPr>
          <a:xfrm>
            <a:off x="6122880" y="1689264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: вниз 54"/>
          <p:cNvSpPr/>
          <p:nvPr/>
        </p:nvSpPr>
        <p:spPr>
          <a:xfrm>
            <a:off x="16038360" y="2346156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2106720" y="8386920"/>
            <a:ext cx="32195880" cy="1336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Требования к участникам отбора, которым должен соответствовать участник отбора на дату подачи заявки на участие в отбор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частник отбора понес затраты на производство и реализацию масла подсолнечного и (или) сахара белого, реализованных в организации розничной торговли в период с 1 апреля 2021 года по 30 сентября 2021 года включитель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частник отбора реализовал масло подсолнечное в организации розничной торговли по цене, не превышающей 95 рублей за 1 литр (включая налог на добавленную стоимость) на условиях FCA (передача на складе грузоотправителя с погрузкой на транспортное средство грузополучателя), и (или) на условиях EXW (передача на складе грузоотправителя), и (или) на иных условиях поставки за вычетом дополнительных расходов на доставку, и (или) сахар белый по цене, не превышающей 36 рублей за 1 килограмм (включая налог на добавленную стоимость) на условиях FCA (передача на складе грузоотправителя с погрузкой на транспортное средство грузополучателя), и (или) на условиях EXW (передача на складе грузоотправителя), и (или) на иных условиях поставки за вычетом дополнительных расходов на фасовку и достав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у участника отбора должна отсутствовать неисполненная обязанность по уплате налогов, сборов, страховых взносов, пеней, штрафов, процентов, подлежащих уплате в соответствии с законодательством Российской Федерации о налогах и сбо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у участника отбора должна отсутствовать просроченная задолженность по возврату в бюджет Воронежской области субсидий, бюджетных инвестиций, предоставленных в том числе в соответствии с иными правовыми актами, а также иная просроченная (неурегулированная) задолженность по денежным обязательствам перед Воронежской област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участники отбора - юридические лица не должны находиться в процессе реорганизации (за исключением реорганизации в форме присоединения к юридическому лицу, являющемуся участником отбора, другого юридического лица), ликвидации, в отношении них не введена процедура банкротства, деятельность участника отбора не приостановлена в порядке, предусмотренном законодательством Российской Федерации, а участники отбора - индивидуальные предприниматели не должны прекратить деятельность в качестве индивидуального предпринимат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в реестре дисквалифицированных лиц отсутствуют сведения о дисквалифицированных руководителе, членах коллегиального исполнительного органа, лице, исполняющем функции единоличного исполнительного органа, ил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участник отбора не должен являться иностранным юридическим лицом, а также российским юридическим лицом, в уставном (складочном) капитале которого доля участия иностранных юридических лиц, местом регистрации которых является государство или территория, включенные в утвержденный Министерством финансов Российской Федерации перечень государств и территорий, предоставляющих льготный налоговый режим налогообложения и (или) не предусматривающих раскрытия и предоставления информации при проведении финансовых операций (офшорные зоны), в совокупности превышает 50 проц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) участник отбора не должен получать средства из бюджета Воронежской области на основании иных нормативных правовых актов Воронежской области на цели, установленные пунктом 3 Поря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2138400" y="2604960"/>
            <a:ext cx="32195880" cy="476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предоставления субсидий является возмещение производителям масла подсолнечного и (или) производителям сахара белого части затрат без учета налога на добавленную стоимость, связанных с производством и реализацией масла подсолнечного и (или) сахара белого в организации розничной торговли, по ставке на 1 литр произведенного и реализованного масла подсолнечного по цене, не превышающей 95 рублей за 1 литр, включая налог на добавленную стоимость, и (или) на 1 килограмм сахара белого по цене, не превышающей 36 рублей за 1 килограмм, включая налог на добавленную стоимость, в рамках реализации государственной программы Воронежской области «Развитие сельского хозяйства, производства пищевых продуктов и инфраструктуры агропродовольственного рынка», утвержденной постановлением правительства Воронежской области от 13.12.2013 № 1088 «Об утверждении государственной программы Воронежской области «Развитие сельского хозяйства, производства пищевых продуктов и инфраструктуры агропродовольственного рын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1797120" y="22410720"/>
            <a:ext cx="32195880" cy="1172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Участник отбора одновременно с представлением заявки представляет в Департамент следующие доку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правку-расчет размера субсидии по форме согласно приложению № 2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ведения о производстве, отгрузке продукции и балансе производственных мощностей по форме федерального статистического наблюдения № 1-натура-БМ, утвержденной приказом Федеральной службы государственной статистики, за год, предшествующий году подачи заявки (кроме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окументы, подтверждающие факт реализации в организации розничной торгов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и договоров реализации масла подсолнечного и (или) сахара белого, заключенных с организациями розничной торгов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естр накладных или универсальных передаточных документов, подтверждающих факт реализации масла подсолнечного и (или) сахара белого в организации розничной торговли за месяц, указанный в справке-расчете по форме согласно приложению № 3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тчетность о финансово-экономическом состоянии участника отбора за год, предшествующий году получения субсидий, по форме, утвержденной Департаментом (за исключением участника отбора, поставленного на учет в налоговых органах и начавшего свою производственную деятельность в отчетном финансовому году или году получения субсидии), в случае отсутствия отчетности в Департамен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согласие на обработку персональных данных (для физического лиц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и документов, указанных в пункте 14 Порядка, заверяются участником отбора либо уполномоченным должностным лицом и скрепляются печатью (при наличии). В случае если документы заверены уполномоченным лицом, предоставляются доверенность и (или) ее копия или иной документ, подтверждающий полномочия уполномоченного лица на заверение документов, указанных в пункте 14 Поря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запрашивает самостоятельно в установленном порядке посредством межведомственного запроса, в том числе в электронной форме с использованием единой системы межведомственного электронного взаимодействия и подключаемых к ней региональных систем межведомственного электронного взаимодействия, справку налогового органа об отсутствии у получателя субсидии просроченной задолженности по налоговым и иным обязательным платежам, выписку из Единого государственного реестра юридических лиц или Единого государственного реестра индивидуальных предприним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0T14:20:26Z</dcterms:created>
  <dc:creator>Светличный Максим Владимирович</dc:creator>
  <dc:description/>
  <dc:language>en-US</dc:language>
  <cp:lastModifiedBy>tunina_i</cp:lastModifiedBy>
  <cp:lastPrinted>2021-08-11T09:50:44Z</cp:lastPrinted>
  <dcterms:modified xsi:type="dcterms:W3CDTF">2021-09-27T10:40:10Z</dcterms:modified>
  <cp:revision>112</cp:revision>
  <dc:subject/>
  <dc:title>Презентация PowerPoint</dc:title>
</cp:coreProperties>
</file>