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922-3D88-4196-9B23-56956AD3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565-4DFB-46C1-8479-3AD788F4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28A-D90F-4CD3-A691-47B807C1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D26-8DA4-4E0A-9F92-70738553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056-DA24-4E68-AD4D-45597076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DE5-86ED-4B25-AA11-140A2C97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3EE-BE61-43B4-AB53-6BADBE5D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44B-53A3-4C7F-B5FE-96F89AB5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027-7D7E-4E2C-90A7-0BAD8DBE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E37-E715-4056-8564-CD2CDA07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C4D-E2D4-4438-A529-A0E1A6F3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C8E-2E10-46D2-A46E-80AA0E13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106DF-0783-4850-964F-6710CF6E680B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575052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09.02.2021 № 57 «Об утверждении Порядка предоставления субсидий из бюджета Воронежской области на осуществление компенсации предприятиям хлебопекарной промышленности части затрат на реализацию произведенных и реализованных хлеба и хлебобулочных издел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организации и индивидуальные предприниматели, осуществляющие первичную и (или) последующую (промышленную) переработку сельскохозяйственной продукции, а именно организации и индивидуальные предприниматели, занимающиеся производством хлеба и хлебобулочных изделий недлительного хранения (со сроком годности менее 5 суток) (код вида экономической деятельности в соответствии с Общероссийским классификатором видов экономической деятельности (ОК 029-2014 (КДЕС Ред. 2)) - 10.71.1), поставленные на учет в налоговых органах Воронежской области, осуществляющие деятельность на территории Воронежской области и соответствующие требованиям, установленным пунктом 5 Порядка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3559320" y="6354720"/>
            <a:ext cx="2648412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3975120" y="9461520"/>
            <a:ext cx="26484120" cy="25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4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155320" y="1249200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155320" y="148035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в пункте 5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90840" y="183006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36360" y="2507148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в соответствии с пунктом 9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3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725200" y="36434880"/>
            <a:ext cx="9918720" cy="33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20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10-го рабочего дня, следующего за днем принятия решения о предоставлении субсид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0 февраля года, следующего за годом получения субсид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879480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108720" y="12015720"/>
            <a:ext cx="46080" cy="4874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16560" y="14385960"/>
            <a:ext cx="44280" cy="41436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05360" y="355093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10958400" y="234457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72674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083160" y="47149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6122880" y="1689264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38360" y="2346156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153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в текущем году на реализацию произведенных и реализованных хлеба и хлебобулочных издел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астник отбора принял обязательство о неповышении в месяц получения компенсации цены на хлеб и хлебобулочные изделия по отношению к средней цене, сложившейся у предприятия в месяце, предшествующем месяцу получения компенс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ю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астник отбора не получает средства из бюджета Воронежской области на основании иных нормативных правовых актов Воронежской области на цели, установленные пунктом 3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участник отбора имеет в наличии мощности для производства хлеба и хлебобулочных изд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3414600"/>
            <a:ext cx="321958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возмещение предприятиям хлебопекарной промышленности части затрат на реализацию произведенных и реализованных хлеба и хлебобулочных изделий (без учета налога на добавленную стоимость) в рамках реализац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 «Об утвержден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157480" y="20913840"/>
            <a:ext cx="32195880" cy="129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ведения о производстве, отгрузке продукции и балансе производственных мощностей по форме федерального статистического наблюдения № 1-натура-БМ, утвержденной Приказом Федеральной службы государственной статистики от 24.07.2020 № 411 «Об утверждении форм федерального статистического наблюдения для организации федерального статистического наблюдения за деятельностью предприятий», за год, предшествующий году подачи заявк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правку о наличии мощностей для производства хлеба и хлебобулочных изделий по форме согласно приложению № 3 к Порядку за год, предшествующий году подачи заявки (для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ведения за месяц, указанный в справке-расчете размера субсидии, о производстве и отгрузке товаров и услуг по форме федерального статистического наблюдения № П-1, утвержденной приказом Федеральной службы государственной статистики, действующей в месяце, указанном в справке-расчете размера субсиди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ведения о производстве и реализации хлеба и хлебобулочных изделий по форме согласно приложению № 4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сведения о понесенных затратах на реализацию произведенных и реализованных хлеба и хлебобулочных изделий по форме согласно приложению № 5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сведения об отпускной цене на реализуемые хлеб и хлебобулочные изделия по форме согласно приложению № 6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отчетность о финансово-экономическом состоянии получателей субсидий за год, предшествующий году получения субсидий, по форме, утвержденной Департаментом (за исключением получателей субсидий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4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ее копия или иной документ, подтверждающий полномочия уполномоченного лица на заверение документов, указанных в пункте 14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апрашивает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, справку налогового органа об отсутствии у получателя субсидии просроченной задолженности по налоговым и иным обязательным платежам, выписку из Единого государственного реестра юридических лиц или Единого государственного реестра индивидуальных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10:38:33Z</dcterms:modified>
  <cp:revision>93</cp:revision>
  <dc:subject/>
  <dc:title>Презентация PowerPoint</dc:title>
</cp:coreProperties>
</file>