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36180713" cy="51120675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9B61-C12B-40D4-BAB6-F0E2B53D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87600" y="3054996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E551-5637-4F0F-8721-2E9FEBE4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47736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92BA-8924-4067-97F9-31E1960B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03848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58900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8760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03848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58900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C9FF-CC92-4A23-84B9-84CB0B73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963"/>
              </a:spcBef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074B-6063-4670-AC3C-7C5F6F64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5CF1-CF2E-49E4-92EA-52C4876A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AD5F-B40A-4270-915C-CAD035A2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E7C2-3248-4A39-80D9-A9A41BE6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87600" y="2720520"/>
            <a:ext cx="31205520" cy="458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963"/>
              </a:spcBef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7A0-671F-4C89-B417-D498934A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6CF8-549F-45B9-BE7D-2CAEA314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47736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C46B-8372-4C39-945C-E92B6ABD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DE8B-5591-4828-A2FC-4E2F9A27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r>
              <a:rPr b="0" lang="en-US" sz="17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24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1" marL="271296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2" marL="452124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3" marL="633096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4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5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6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87240" y="47380680"/>
            <a:ext cx="81406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985480" y="47380680"/>
            <a:ext cx="1220976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552080" y="47380680"/>
            <a:ext cx="81406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B70D0-1DCC-4DC9-AA97-F23F7285B30D}" type="slidenum">
              <a:rPr b="0" lang="ru-RU" sz="4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880920" y="706320"/>
            <a:ext cx="34756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-схема предоставления мер государственной поддерж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становлением правительства Воронежской области от 13.08.2018 № 682 «Об утверждении Порядка предоставления субсидии из областного бюджета сельскохозяйственным товаропроизводителям (за исключением граждан, ведущих личное подсобное хозяйство) на поддержку рыбоводст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получение субсидий имеют сельскохозяйственные товаропроизводители (за исключением граждан, ведущих личное подсобное хозяйство), зарегистрированные и осуществляющие деятельность на территории Воронежской области, соответствующие требованиям, установленным пунктом 9 Порядка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4834080" y="5467320"/>
            <a:ext cx="26484120" cy="172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департаментом аграрной политики Воронежской области объявления о проведении отбора на  Едином портале бюджетной системы Российской Федерации в информационно-телекоммуникационной сети «Интернет», а также в информационной системе «Портал Воронежской области в сети Интернет» на странице Департа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9"/>
          <p:cNvSpPr/>
          <p:nvPr/>
        </p:nvSpPr>
        <p:spPr>
          <a:xfrm>
            <a:off x="4862520" y="7854840"/>
            <a:ext cx="26484120" cy="49467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участником отбора в Департамент в срок, установленный Департаментом в объявлении о проведении отбора, заявки на участие в отборе по форме согласно приложению № 1 к Порядку с приложением документов, указанных 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е 13 Порядка 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отбора вправе в любое время отозвать поданную заявку, внести изменения в поданную зая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6"/>
          <p:cNvSpPr/>
          <p:nvPr/>
        </p:nvSpPr>
        <p:spPr>
          <a:xfrm>
            <a:off x="11266560" y="13323960"/>
            <a:ext cx="14238360" cy="189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явки Департамен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8"/>
          <p:cNvSpPr/>
          <p:nvPr/>
        </p:nvSpPr>
        <p:spPr>
          <a:xfrm>
            <a:off x="11266560" y="15717960"/>
            <a:ext cx="1423836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Департаментом решения о принятии заявки к рассмотрению либо об отклонении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, не превышающий 10 рабочих дней с даты регистрации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5"/>
          <p:cNvSpPr/>
          <p:nvPr/>
        </p:nvSpPr>
        <p:spPr>
          <a:xfrm>
            <a:off x="1830240" y="18469080"/>
            <a:ext cx="902844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заявки к рассмотр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6"/>
          <p:cNvSpPr/>
          <p:nvPr/>
        </p:nvSpPr>
        <p:spPr>
          <a:xfrm>
            <a:off x="26681040" y="18562680"/>
            <a:ext cx="7902720" cy="984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онение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ми для отклонения заявки участника отбора на стадии рассмотрения и оценки заявок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участника отбора требованиям, установленным пунктами 4, 9 Поря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представленных участником отбора заявок и документов требованиям к заявкам участников отбора, установленным в объявлении о проведении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стоверность представленной участником отбора информации, в том числе информации о месте нахождения и адресе юридического ли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ача участником отбора заявки после даты, определенной для подачи заяв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8"/>
          <p:cNvSpPr/>
          <p:nvPr/>
        </p:nvSpPr>
        <p:spPr>
          <a:xfrm>
            <a:off x="14163840" y="19242000"/>
            <a:ext cx="7902360" cy="440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информации о результатах рассмотрения заявок на Едином портале, а также в информационной системе «Портал Воронежской области в сети Интернет» на странице Департам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принятия решения по результатам рассмотрения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925640" y="21891600"/>
            <a:ext cx="9028080" cy="288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Департаментом решения о предоставлении субсидии либо об отказе в ее предост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, не превышающий 10 рабочих дней с даты регистрации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11795040" y="25752600"/>
            <a:ext cx="10074240" cy="1045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в предоставлении субси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ми для отказа участнику отбора в предоставлении субсид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представленных участником отбора документов требованиям, определенным пунктом 13 Порядка, или непредставление (представление не в полном объеме) указанных докум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новление факта недостоверности, представленной участником отбора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выполнение целей и условий предоставления субсидий, установленных Поряд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аз получателя субсидии от заключения Соглаш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лонение получателя субсидии от заключения Соглашения в сроки, установленные пунктом 21 Поря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утствие лимитов бюджетных обязательств на предоставление субсид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8"/>
          <p:cNvSpPr/>
          <p:nvPr/>
        </p:nvSpPr>
        <p:spPr>
          <a:xfrm>
            <a:off x="11666520" y="37142640"/>
            <a:ext cx="9918720" cy="335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ое уведомление участника отбора об отказе в предоставлении субсидии с указанием причины принятия соответствующего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реш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2112840" y="29548080"/>
            <a:ext cx="7380360" cy="288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участника отбора в реестр получателей субсидии на оплату из бюджета Воронеж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субсидии рассчитывается в соответствии с пунктом 18 Поря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2152800" y="26411400"/>
            <a:ext cx="73800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домление участника отбора о принятом решени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реш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1868400" y="33169320"/>
            <a:ext cx="7400880" cy="356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Соглашения о предоставлении субсид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10 рабочих дней с даты принятия решения о предоставлении субсидии) либо отказ участника отбора от заключения Согла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1932120" y="37441080"/>
            <a:ext cx="7380000" cy="238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ение субси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6"/>
          <p:cNvSpPr/>
          <p:nvPr/>
        </p:nvSpPr>
        <p:spPr>
          <a:xfrm>
            <a:off x="1962000" y="40495680"/>
            <a:ext cx="738036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олучателем субсидии отчета о достижении результатов предоставления субсид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 до 10 февраля года, следующего за годом получения субсидии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: вправо 17"/>
          <p:cNvSpPr/>
          <p:nvPr/>
        </p:nvSpPr>
        <p:spPr>
          <a:xfrm>
            <a:off x="9310680" y="34971120"/>
            <a:ext cx="946080" cy="136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: вниз 20"/>
          <p:cNvSpPr/>
          <p:nvPr/>
        </p:nvSpPr>
        <p:spPr>
          <a:xfrm>
            <a:off x="18127800" y="7188120"/>
            <a:ext cx="46080" cy="66672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: вниз 22"/>
          <p:cNvSpPr/>
          <p:nvPr/>
        </p:nvSpPr>
        <p:spPr>
          <a:xfrm>
            <a:off x="18052920" y="12819240"/>
            <a:ext cx="46080" cy="487080"/>
          </a:xfrm>
          <a:prstGeom prst="downArrow">
            <a:avLst>
              <a:gd name="adj1" fmla="val 50000"/>
              <a:gd name="adj2" fmla="val 4991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: вниз 23"/>
          <p:cNvSpPr/>
          <p:nvPr/>
        </p:nvSpPr>
        <p:spPr>
          <a:xfrm>
            <a:off x="18099000" y="15217920"/>
            <a:ext cx="44640" cy="414360"/>
          </a:xfrm>
          <a:prstGeom prst="downArrow">
            <a:avLst>
              <a:gd name="adj1" fmla="val 50000"/>
              <a:gd name="adj2" fmla="val 4980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: вниз 27"/>
          <p:cNvSpPr/>
          <p:nvPr/>
        </p:nvSpPr>
        <p:spPr>
          <a:xfrm>
            <a:off x="6105600" y="20966040"/>
            <a:ext cx="46080" cy="925560"/>
          </a:xfrm>
          <a:prstGeom prst="downArrow">
            <a:avLst>
              <a:gd name="adj1" fmla="val 50000"/>
              <a:gd name="adj2" fmla="val 4993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: вниз 32"/>
          <p:cNvSpPr/>
          <p:nvPr/>
        </p:nvSpPr>
        <p:spPr>
          <a:xfrm flipH="1">
            <a:off x="16656120" y="36222120"/>
            <a:ext cx="108000" cy="9270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: вниз 34"/>
          <p:cNvSpPr/>
          <p:nvPr/>
        </p:nvSpPr>
        <p:spPr>
          <a:xfrm>
            <a:off x="5925960" y="32457960"/>
            <a:ext cx="44640" cy="725400"/>
          </a:xfrm>
          <a:prstGeom prst="downArrow">
            <a:avLst>
              <a:gd name="adj1" fmla="val 50000"/>
              <a:gd name="adj2" fmla="val 4980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: вниз 37"/>
          <p:cNvSpPr/>
          <p:nvPr/>
        </p:nvSpPr>
        <p:spPr>
          <a:xfrm>
            <a:off x="5989680" y="39811320"/>
            <a:ext cx="44280" cy="652320"/>
          </a:xfrm>
          <a:prstGeom prst="downArrow">
            <a:avLst>
              <a:gd name="adj1" fmla="val 50000"/>
              <a:gd name="adj2" fmla="val 5019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: вниз 44"/>
          <p:cNvSpPr/>
          <p:nvPr/>
        </p:nvSpPr>
        <p:spPr>
          <a:xfrm>
            <a:off x="6000840" y="24711120"/>
            <a:ext cx="46080" cy="1689120"/>
          </a:xfrm>
          <a:prstGeom prst="downArrow">
            <a:avLst>
              <a:gd name="adj1" fmla="val 50000"/>
              <a:gd name="adj2" fmla="val 4989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: вправо 51"/>
          <p:cNvSpPr/>
          <p:nvPr/>
        </p:nvSpPr>
        <p:spPr>
          <a:xfrm>
            <a:off x="6081840" y="16822800"/>
            <a:ext cx="5105160" cy="46080"/>
          </a:xfrm>
          <a:prstGeom prst="rightArrow">
            <a:avLst>
              <a:gd name="adj1" fmla="val 50000"/>
              <a:gd name="adj2" fmla="val 4975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: вниз 52"/>
          <p:cNvSpPr/>
          <p:nvPr/>
        </p:nvSpPr>
        <p:spPr>
          <a:xfrm>
            <a:off x="18029160" y="18208800"/>
            <a:ext cx="46080" cy="100152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: вниз 54"/>
          <p:cNvSpPr/>
          <p:nvPr/>
        </p:nvSpPr>
        <p:spPr>
          <a:xfrm>
            <a:off x="30586320" y="1691784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: вниз 18"/>
          <p:cNvSpPr/>
          <p:nvPr/>
        </p:nvSpPr>
        <p:spPr>
          <a:xfrm flipH="1">
            <a:off x="6012000" y="28905120"/>
            <a:ext cx="46080" cy="59544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: вниз 21"/>
          <p:cNvSpPr/>
          <p:nvPr/>
        </p:nvSpPr>
        <p:spPr>
          <a:xfrm rot="10800000">
            <a:off x="10186920" y="29501640"/>
            <a:ext cx="90720" cy="5475240"/>
          </a:xfrm>
          <a:prstGeom prst="downArrow">
            <a:avLst>
              <a:gd name="adj1" fmla="val 50000"/>
              <a:gd name="adj2" fmla="val 4973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: вправо 24"/>
          <p:cNvSpPr/>
          <p:nvPr/>
        </p:nvSpPr>
        <p:spPr>
          <a:xfrm>
            <a:off x="10256760" y="29406960"/>
            <a:ext cx="1527120" cy="125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: вниз 25"/>
          <p:cNvSpPr/>
          <p:nvPr/>
        </p:nvSpPr>
        <p:spPr>
          <a:xfrm>
            <a:off x="5923080" y="36739440"/>
            <a:ext cx="68040" cy="669960"/>
          </a:xfrm>
          <a:prstGeom prst="downArrow">
            <a:avLst>
              <a:gd name="adj1" fmla="val 50000"/>
              <a:gd name="adj2" fmla="val 5014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: вправо 51"/>
          <p:cNvSpPr/>
          <p:nvPr/>
        </p:nvSpPr>
        <p:spPr>
          <a:xfrm>
            <a:off x="25468200" y="1691316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: вниз 54"/>
          <p:cNvSpPr/>
          <p:nvPr/>
        </p:nvSpPr>
        <p:spPr>
          <a:xfrm>
            <a:off x="6049800" y="1688148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: вниз 54"/>
          <p:cNvSpPr/>
          <p:nvPr/>
        </p:nvSpPr>
        <p:spPr>
          <a:xfrm>
            <a:off x="18221400" y="3827520"/>
            <a:ext cx="46080" cy="159840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: вправо 51"/>
          <p:cNvSpPr/>
          <p:nvPr/>
        </p:nvSpPr>
        <p:spPr>
          <a:xfrm>
            <a:off x="10931400" y="2403792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: вниз 54"/>
          <p:cNvSpPr/>
          <p:nvPr/>
        </p:nvSpPr>
        <p:spPr>
          <a:xfrm>
            <a:off x="16008480" y="2412828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2106720" y="8386920"/>
            <a:ext cx="32195880" cy="1078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Требования к участникам отбора, которым должен соответствовать участник отбора на дату подачи заявки на участие в отбор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участник отбора понес затраты на приобретение рыбопосадочного материала осетровых, лососевых и товарных пород рыб, за реализованную рыбу осетровых, лососевых и товарных пород, произведенную в хозяйстве, за реализованный рыбопосадочный материал осетровых, лососевых и товарных пород рыб, произведенный в хозяйстве в предыдущем го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 участника отбора должна отсутствовать неисполненная обязанность по уплате налогов, сборов, страховых взносов, пеней, штрафов, процентов, подлежащих уплате в соответствии с законодательством Российской Федерации о налогах и сбор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у участника отбора должна отсутствовать просроченная задолженность по возврату в бюджет Воронежской области субсидий, бюджетных инвестиций, предоставленных в том числе в соответствии с иными правовыми актами, а также иная просроченная (неурегулированная) задолженность по денежным обязательствам перед Воронежской област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участники отбора - юридические лица не должны находиться в процессе реорганизации (за исключением реорганизации в форме присоединения к юридическому лицу, являющемуся участником отбора, другого юридического лица), ликвидации, в отношении них не введена процедура банкротства, деятельность участника отбора не приостановлена в порядке, предусмотренном законодательством Российской Федерации, а участники отбора - индивидуальные предприниматели не должны прекратить деятельность в качестве индивидуального предпринимате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в реестре дисквалифицированных лиц отсутствуют сведения о дисквалифицированных руководителе, членах коллегиального исполнительного органа, лице, исполняющем функции единоличного исполнительного органа, ил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участник отбора не должен являться иностранным юридическим лицом, а также российским юридическим лицом, в уставном (складочном) капитале которого доля участия иностранных юридических лиц, местом регистрации которых являются государство или территория, включенные в утвержденный Министерством финансов Российской Федерации перечень государств и территорий, предоставляющих льготный налоговый режим налогообложения и (или) не предусматривающих раскрытия и предоставления информации при проведении финансовых операций (офшорные зоны), в совокупности превышает 50 проц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) участник отбора не должен получать средства из бюджета Воронежской области на основании иных нормативных правовых актов Воронежской области на цели, установленные пунктом 2 Поря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2138400" y="3387600"/>
            <a:ext cx="3219588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предоставления субсидий является компенсация сельскохозяйственным товаропроизводителям (за исключением граждан, ведущих личное подсобное хозяйство) части затрат, понесенных на приобретение рыбопосадочного материала осетровых, лососевых и товарных пород рыб, за реализованную рыбу осетровых, лососевых и товарных пород, произведенную в данном хозяйстве, за реализованный рыбопосадочный материал осетровых, лососевых и товарных пород рыб, произведенный в данном хозяйстве, в рамках реализации мероприятия 13.6.11 «Предоставление субсидий сельскохозяйственным товаропроизводителям (за исключением граждан, ведущих личное подсобное хозяйство) на поддержку рыбоводства» основного мероприятия 13.6 «Поддержка сельскохозяйственного производства по отдельным подотраслям растениеводства и животноводства» подпрограммы 13 «Развитие отраслей агропромышленного комплекса» государственной программы Воронежской области «Развитие сельского хозяйства, производства пищевых продуктов и инфраструктуры агропродовольственного рынка», утвержденной постановлением правительства Воронежской области от 13.12.2013 № 108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2517840" y="2182680"/>
            <a:ext cx="32195880" cy="3370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Участник отбора одновременно с представлением заявки представляет в Департамент следующие докум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озмещения части затрат на приобретение рыбопосадочного материала осетровых и лососевых пород ры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четность о финансово-экономическом состоянии получателя субсидии за год, предшествующий году получения субсидии, по форме, утвержденной Департаментом (за исключением крестьянских (фермерских) хозяйств, поставленных на учет в налоговых органах и начавших свою производственную деятельность в отчетном финансовому году или году получения субсидии), в случае отсутствия отчетности в Департамен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ку-расчет размера субсидии по форме согласно приложению № 2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пии договоров (контрактов), товарных накладных, платежных документов на приобретенную молодь и (или) личинку рыб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пии ветеринарных сопроводительных документов на приобретенную молодь и (или) личинку рыб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руководителе, членах коллегиального исполнительного органа, лице, исполняющем функции единоличного исполнительного органа, 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гласие на обработку персональных данных (для физического лица) по форме, утвержденной Департамен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озмещения части затрат за реализованную рыбу товарных пород, произведенную в данном хозяйст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четность о финансово-экономическом состоянии получателя субсидии за год, предшествующий году получения субсидии, по форме, утвержденной Департаментом (за исключением крестьянских (фермерских) хозяйств, поставленных на учет в налоговых органах и начавших свою производственную деятельность в отчетном финансовому году или году получения субсидии), в случае отсутствия отчетности в Департамен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ку-расчет размера субсидии по форме согласно приложению № 3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руководителе, членах коллегиального исполнительного органа, лице, исполняющем функции единоличного исполнительного органа, 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ие на обработку персональных данных (для физического лица) по форме, утвержденной Департамен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озмещения части затрат за реализованную рыбу осетровых и лососевых пород, произведенную в хозяйст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четность о финансово-экономическом состоянии получателя субсидии за год, предшествующий году получения субсидии, по форме, утвержденной Департаментом (за исключением крестьянских (фермерских) хозяйств, поставленных на учет в налоговых органах и начавших свою производственную деятельность в отчетном финансовому году или году получения субсидии), в случае отсутствия отчетности в Департамен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ку-расчет размера субсидии по форме согласно приложению № 3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руководителе, членах коллегиального исполнительного органа, лице, исполняющем функции единоличного исполнительного органа, 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ие на обработку персональных данных (для физического лица) по форме, утвержденной Департамен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озмещения части затрат на приобретение рыбопосадочного материала товарных пород ры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четность о финансово-экономическом состоянии получателя субсидии за год, предшествующий году получения субсидии, по форме, утвержденной Департаментом (за исключением крестьянских (фермерских) хозяйств, поставленных на учет в налоговых органах и начавших свою производственную деятельность в отчетном финансовому году или году получения субсидии), в случае отсутствия отчетности в Департамен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ку-расчет размера субсидии по форме согласно приложению № 2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пии договоров (контрактов), товарных накладных, платежных документов на приобретенный рыбопосадочный матери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пии ветеринарных сопроводительных документов на приобретенный рыбопосадочный матери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руководителе, членах коллегиального исполнительного органа, лице, исполняющем функции единоличного исполнительного органа, 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ие на обработку персональных данных (для физического лица) по форме, утвержденной Департамен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озмещения части затрат за реализованный рыбопосадочный материал осетровых и лососевых пород рыб, произведенный в хозяйст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четность о финансово-экономическом состоянии получателя субсидии за год, предшествующий году получения субсидии, по форме, утвержденной Департаментом (за исключением крестьянских (фермерских) хозяйств, поставленных на учет в налоговых органах и начавших свою производственную деятельность в отчетном финансовому году или году получения субсидии), в случае отсутствия отчетности в Департамен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ку-расчет размера субсидии по форме согласно приложению № 4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пии договоров (контрактов), товарных накладных, платежных документов на реализованный рыбопосадочный матери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пии ветеринарных сопроводительных документов за реализованный рыбопосадочный матери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руководителе, членах коллегиального исполнительного органа, лице, исполняющем функции единоличного исполнительного органа, 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ие на обработку персональных данных (для физического лица) по форме, утвержденной Департамен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озмещения части затрат за реализованный рыбопосадочный материал товарных пород рыб, произведенный в хозяйст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четность о финансово-экономическом состоянии получателя субсидии за год, предшествующий году получения субсидии, по форме, утвержденной Департаментом (за исключением крестьянских (фермерских) хозяйств, поставленных на учет в налоговых органах и начавших свою производственную деятельность в отчетном финансовому году или году получения субсидии), в случае отсутствия отчетности в Департамен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ку-расчет размера субсидии по форме согласно приложению № 4 к 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пии договоров (контрактов), товарных накладных, платежных документов на реализацию рыбопосадочного матери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пии ветеринарных сопроводительных документов за реализованный рыбопосадочный матери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руководителе, членах коллегиального исполнительного органа, лице, исполняющем функции единоличного исполнительного органа, 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гласие на обработку персональных данных (для физического лица) по форме, утвержденной Департамен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и документов, указанных в пункте 13 Порядка, заверяются участником отбора либо уполномоченным должностным лицом и скрепляются печатью (при наличии). В случае если документы заверены уполномоченным лицом, предоставляются доверенность и ее копия или иной документ, подтверждающий полномочия уполномоченного лица на заверение документов, указанных в пункте 13 Поря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отбора вправе представить по собственной инициати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ыписку из Единого государственного реестра юридических лиц или Единого государственного реестра индивидуальных предпринима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правку налогового органа об отсутствии у участника отбора просроченной задолженности по налогам и иным обязательным платеж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если участник отбора не представил по собственной инициативе документы, указанные в пункте 14 Порядка, Департамент запрашивает их самостоятельно в установленном порядке посредством межведомственного запроса, в том числе в электронной форме с использованием единой системы межведомственного электронного взаимодействия и подключаемых к ней региональных систем межведомственного электронного взаимо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0T14:20:26Z</dcterms:created>
  <dc:creator>Светличный Максим Владимирович</dc:creator>
  <dc:description/>
  <dc:language>en-US</dc:language>
  <cp:lastModifiedBy>tunina_i</cp:lastModifiedBy>
  <cp:lastPrinted>2021-08-11T09:50:44Z</cp:lastPrinted>
  <dcterms:modified xsi:type="dcterms:W3CDTF">2021-09-27T09:18:37Z</dcterms:modified>
  <cp:revision>79</cp:revision>
  <dc:subject/>
  <dc:title>Презентация PowerPoint</dc:title>
</cp:coreProperties>
</file>